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B465-7065-4E78-AA9D-3D6764A641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D787-B60A-4159-A69B-6E8CA77E8A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A254-606F-40D8-8E15-942FDA6481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765A-A9B8-471C-AB81-7B9C8062A4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EBD1-B003-44FA-9EF7-945BB95E87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670B-2D84-455D-8014-F0B1C6BAEA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FE47-8990-4EF5-8A33-DF22321367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E308-91F7-4DF2-8893-0CD06C1383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FA11-7848-4C7E-93A0-9DFB296E005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F1D0-088D-4DCC-9AFE-D250D3EFC8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E85F-AC8D-4556-8317-2D5D8F9E79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43E2-C066-4C2B-A430-BA2A568FAD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BB15-086B-4455-885B-590183E0B5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CD45-D9D3-4773-92C9-983F94A4A9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0BA5-2A46-4208-9B75-CE20DE8A51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3D4C-AF0C-423C-B17C-E09BB0E010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46F7-A4CC-4DF8-879D-A38E353AF7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FF3C-3AF3-4258-8CD6-9EC4FA0BF2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EE5A-9AB1-41AC-9BAA-ABFC5BCEBE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8CE9-4867-402A-B9E3-EB67164996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904-710C-4037-B879-FA281EA3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CC3-8EED-467C-8780-D691467C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BB3-840B-4BEF-8874-E7997E1C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C9C-3CA7-44FB-88A8-7B47E1BC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995-FCB1-474B-BBC1-7893EA27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119-3B1C-494B-8F0F-3769898C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259-5C28-4B68-AD7A-4180A236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34E-4A83-41F6-B860-7B30F9F9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544-4C6D-45C1-852A-E6984483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DEB-480E-485A-B1B2-AE5D6EE6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0AA-37AB-4BF6-8B80-D1C7A0D8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0F9-4D7D-4173-ACF7-1C7AA71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AFEF-A35D-4338-8FF6-937C252E0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68360" y="6024600"/>
          <a:ext cx="6335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024600"/>
                    <a:ext cx="633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vk.cz/rp" TargetMode="External"/><Relationship Id="rId3" Type="http://schemas.openxmlformats.org/officeDocument/2006/relationships/hyperlink" Target="http://www.mvk.cz/rp" TargetMode="External"/><Relationship Id="rId4" Type="http://schemas.openxmlformats.org/officeDocument/2006/relationships/hyperlink" Target="http://www.mvk.cz/rp" TargetMode="External"/><Relationship Id="rId5" Type="http://schemas.openxmlformats.org/officeDocument/2006/relationships/hyperlink" Target="http://www.mvk.cz/rp" TargetMode="External"/><Relationship Id="rId6" Type="http://schemas.openxmlformats.org/officeDocument/2006/relationships/hyperlink" Target="http://www.mvk.cz/rp" TargetMode="External"/><Relationship Id="rId7" Type="http://schemas.openxmlformats.org/officeDocument/2006/relationships/hyperlink" Target="http://www.mvk.cz/rp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40280" y="3268800"/>
            <a:ext cx="67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ečná konference - dube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0"/>
          <p:cNvGraphicFramePr/>
          <p:nvPr/>
        </p:nvGraphicFramePr>
        <p:xfrm>
          <a:off x="250920" y="5929200"/>
          <a:ext cx="705780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929200"/>
                    <a:ext cx="70578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7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4"/>
          <a:stretch/>
        </p:blipFill>
        <p:spPr>
          <a:xfrm>
            <a:off x="142920" y="3357720"/>
            <a:ext cx="13572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2009\Projekt Rovné příležitosti\září 09 PC kurz\P1010289x.jpg"/>
          <p:cNvPicPr/>
          <p:nvPr/>
        </p:nvPicPr>
        <p:blipFill>
          <a:blip r:embed="rId2"/>
          <a:stretch/>
        </p:blipFill>
        <p:spPr>
          <a:xfrm>
            <a:off x="214200" y="1428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2009\Projekt Rovné příležitosti\září 09 PC kurz\P1010264x.jpg"/>
          <p:cNvPicPr/>
          <p:nvPr/>
        </p:nvPicPr>
        <p:blipFill>
          <a:blip r:embed="rId3"/>
          <a:stretch/>
        </p:blipFill>
        <p:spPr>
          <a:xfrm>
            <a:off x="4429080" y="2571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egion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A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 konference pro zaměstn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dotazníkové šetření pro zaměstnava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x konference rodinných a mateřsk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492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ference pro zaměstn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2009\Projekt Rovné příležitosti\09_12_02Konference AERV\fotbal a konference 170x.jpg"/>
          <p:cNvPicPr/>
          <p:nvPr/>
        </p:nvPicPr>
        <p:blipFill>
          <a:blip r:embed="rId3"/>
          <a:stretch/>
        </p:blipFill>
        <p:spPr>
          <a:xfrm>
            <a:off x="179280" y="141300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2009\Projekt Rovné příležitosti\09_12_02Konference AERV\fotbal a konference 182x.jpg"/>
          <p:cNvPicPr/>
          <p:nvPr/>
        </p:nvPicPr>
        <p:blipFill>
          <a:blip r:embed="rId4"/>
          <a:stretch/>
        </p:blipFill>
        <p:spPr>
          <a:xfrm>
            <a:off x="4356000" y="2781360"/>
            <a:ext cx="4189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7"/>
          <p:cNvSpPr/>
          <p:nvPr/>
        </p:nvSpPr>
        <p:spPr>
          <a:xfrm>
            <a:off x="611280" y="17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ference mateřských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2010\PROJEKT ŽENY A MUŽI V KOMUNITNÍ KNIHOVNĚ\10_10_21KonferenceRP_DK\P1000423.JPG"/>
          <p:cNvPicPr/>
          <p:nvPr/>
        </p:nvPicPr>
        <p:blipFill>
          <a:blip r:embed="rId3"/>
          <a:stretch/>
        </p:blipFill>
        <p:spPr>
          <a:xfrm>
            <a:off x="3276720" y="1916280"/>
            <a:ext cx="518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98280"/>
            <a:ext cx="70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96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blematika slaďování profesního a rodinného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ivota v povědomí veřejnosti a místní komunit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SP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ní přednáška „GENDER -  co to je za slovo a jaký má význam?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ým kampa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– dobrovolníci a dobrovol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elné schůzky – příprava happeningu, výstavy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aní člán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ppening „Jsme si rovni“ na Dolním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a fotografií „Velké prádlo aneb bourání stereotyp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2010\PROJEKT ŽENY A MUŽI V KOMUNITNÍ KNIHOVNĚ\10_05_13Happening Jsme si rovni\michal fotky\1\DSC_0756x.jpg"/>
          <p:cNvPicPr/>
          <p:nvPr/>
        </p:nvPicPr>
        <p:blipFill>
          <a:blip r:embed="rId3"/>
          <a:stretch/>
        </p:blipFill>
        <p:spPr>
          <a:xfrm>
            <a:off x="3851280" y="2637000"/>
            <a:ext cx="5113440" cy="34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2010\PROJEKT ŽENY A MUŽI V KOMUNITNÍ KNIHOVNĚ\Týmkampaně\30.3.2010\P1020921x.jpg"/>
          <p:cNvPicPr/>
          <p:nvPr/>
        </p:nvPicPr>
        <p:blipFill>
          <a:blip r:embed="rId4"/>
          <a:stretch/>
        </p:blipFill>
        <p:spPr>
          <a:xfrm>
            <a:off x="250920" y="1557360"/>
            <a:ext cx="3552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2010\PROJEKT ŽENY A MUŽI V KOMUNITNÍ KNIHOVNĚ\10_05_13Happening Jsme si rovni\michal fotky\1\DSC_0795x.jpg"/>
          <p:cNvPicPr/>
          <p:nvPr/>
        </p:nvPicPr>
        <p:blipFill>
          <a:blip r:embed="rId3"/>
          <a:stretch/>
        </p:blipFill>
        <p:spPr>
          <a:xfrm>
            <a:off x="4284720" y="3044880"/>
            <a:ext cx="4341600" cy="290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F:\2010\PROJEKT ŽENY A MUŽI V KOMUNITNÍ KNIHOVNĚ\10_05_13Happening Jsme si rovni\michal fotky\1\DSC_0774x.jpg"/>
          <p:cNvPicPr/>
          <p:nvPr/>
        </p:nvPicPr>
        <p:blipFill>
          <a:blip r:embed="rId4"/>
          <a:stretch/>
        </p:blipFill>
        <p:spPr>
          <a:xfrm>
            <a:off x="324000" y="1484280"/>
            <a:ext cx="38876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80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F:\2010\PROJEKT ŽENY A MUŽI V KOMUNITNÍ KNIHOVNĚ\Výstava_Aktivní otcovství\P1030803.JPG"/>
          <p:cNvPicPr/>
          <p:nvPr/>
        </p:nvPicPr>
        <p:blipFill>
          <a:blip r:embed="rId3"/>
          <a:stretch/>
        </p:blipFill>
        <p:spPr>
          <a:xfrm>
            <a:off x="179280" y="1484280"/>
            <a:ext cx="3649680" cy="273672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8"/>
          <p:cNvSpPr/>
          <p:nvPr/>
        </p:nvSpPr>
        <p:spPr>
          <a:xfrm>
            <a:off x="392436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Aktivní otcovstv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F:\2011\ROVNÉ PŘÍLEŽITOSTI_PROJEKTU ESF\Výstava Velké prádlo\IMAG0051x.jpg"/>
          <p:cNvPicPr/>
          <p:nvPr/>
        </p:nvPicPr>
        <p:blipFill>
          <a:blip r:embed="rId4"/>
          <a:stretch/>
        </p:blipFill>
        <p:spPr>
          <a:xfrm>
            <a:off x="4284720" y="3141720"/>
            <a:ext cx="4286160" cy="256680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8"/>
          <p:cNvSpPr/>
          <p:nvPr/>
        </p:nvSpPr>
        <p:spPr>
          <a:xfrm>
            <a:off x="1476360" y="54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Velké prá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4920" y="18900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ánky projektu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vk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skové zprávy, čl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ční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g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Users\Katka\Documents\KATKA\KATKA\Ženy a muži v komunitní knihovně - projekt RP říjen 08\Publicita\Loga\symbol_rovnost_sbaleno\jpeg\logo_plnobarevne.jpg"/>
          <p:cNvPicPr/>
          <p:nvPr/>
        </p:nvPicPr>
        <p:blipFill>
          <a:blip r:embed="rId8"/>
          <a:stretch/>
        </p:blipFill>
        <p:spPr>
          <a:xfrm>
            <a:off x="3000240" y="3714840"/>
            <a:ext cx="3453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ěkuji za pozorn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0880" y="494352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arykova veřejná knihovna Vse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17360" y="540216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mv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vk@vs.inex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411280" y="54021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 412 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 449 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00" y="98280"/>
            <a:ext cx="700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einvestiční pro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9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lý název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Rovné příležitosti žen a mužů v komunitní knihovně Vsetín - partnerství a zdravá komunita - celoživotní vzdělávání – prosper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poče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038.345,92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armonogram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rvenec 2009 - červe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avní cíl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38960" y="1285920"/>
            <a:ext cx="905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pt-horní pruh logo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4840" y="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tační program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ční progra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dské zdroje a zaměstna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P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ní o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ální integrace a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ast podp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vné příležitosti žen a mužů na trhu práce a sladění pracovního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79280" y="1413000"/>
            <a:ext cx="849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8571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m cílem projektu 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za pomoci vytvoření partnerství mezi vybranými institucemi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místě ovlivnit vnímání problematiky rovných příležitostí žen a mužů v okrese Vsetí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35720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800" y="18900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507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ouhodobě nezaměstnané ženy - muž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odobné situaci (na MD, 50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městnavatel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768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tnersk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o Vset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dinné a mateřské centrum Sluníčko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ost pro komunitní práci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entura pro ekonomický rozvoj Vsetín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ká spolupráce s Úřadem práce Vsetí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53360" y="1285920"/>
            <a:ext cx="890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osob ohrožených na trhu práce (včetně doprovodných opat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gio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azování problematiky slaďování profesního a rodinného života v povědomí veřejnosti a míst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1428480"/>
            <a:ext cx="87505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zdělávání osob ohrožených na trh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zykové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atické kurzy – Ekonomické minimum, Technika administrativy, Právní minimum, Ekologie a 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obnostní výcvik a psychosociální motivační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rovodná opatření – hlídání dětí a příspěvek na do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mi dobrá spolupráce s ÚP Vsetín i R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ční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jení, výměna zkušeností (mladé maminky, ženy ve věku 5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ěhlo 70 kurzů, ve kterých bylo proškoleno přes 600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07360" y="1285920"/>
            <a:ext cx="836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2009\Projekt Rovné příležitosti\Jazykové kurzy\P1010358x.jpg"/>
          <p:cNvPicPr/>
          <p:nvPr/>
        </p:nvPicPr>
        <p:blipFill>
          <a:blip r:embed="rId2"/>
          <a:stretch/>
        </p:blipFill>
        <p:spPr>
          <a:xfrm>
            <a:off x="142920" y="1571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2009\Projekt Rovné příležitosti\Jazykové kurzy\P1010355x.jpg"/>
          <p:cNvPicPr/>
          <p:nvPr/>
        </p:nvPicPr>
        <p:blipFill>
          <a:blip r:embed="rId3"/>
          <a:stretch/>
        </p:blipFill>
        <p:spPr>
          <a:xfrm>
            <a:off x="4429080" y="23572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40:35Z</dcterms:created>
  <dc:creator>uživatel</dc:creator>
  <dc:description/>
  <dc:language>en-US</dc:language>
  <cp:lastModifiedBy>Haisová</cp:lastModifiedBy>
  <dcterms:modified xsi:type="dcterms:W3CDTF">2011-07-25T07:05:13Z</dcterms:modified>
  <cp:revision>128</cp:revision>
  <dc:subject/>
  <dc:title>Nadpis prezentace</dc:title>
</cp:coreProperties>
</file>